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5.jpeg" ContentType="image/jpeg"/>
  <Override PartName="/ppt/media/image18.wmf" ContentType="image/x-wmf"/>
  <Override PartName="/ppt/media/image2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2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643-FD73-41FB-B398-DFD18A07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E08-B634-4C2D-A619-5FD9C01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71F-F7F2-4D36-96D6-F7F5A294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F96-41C2-4BE3-AAAA-65F0FC15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87B-9275-49AA-A74F-105391F9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273-2600-4286-BE96-7DDBE231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94C-0BC3-4A28-B8B7-ED26EF6D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88B-516D-4841-ACD3-1109F8DF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1E3-5C33-4F57-AA8C-F1DEB46F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1B2-E974-421E-98C0-F59AE496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6B3-49FC-4ECB-B5BC-3CAC686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407-4588-403A-B1DA-C1BDC9C4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A9FF-4BCF-4EFF-A294-D10A276C01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schooltube.com/video/35819/A-Vision-for-k-12-Learners-Today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2560" y="2664000"/>
            <a:ext cx="7785000" cy="18111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grpSp>
          <p:nvGrpSpPr>
            <p:cNvPr id="43" name="Group 11"/>
            <p:cNvGrpSpPr/>
            <p:nvPr/>
          </p:nvGrpSpPr>
          <p:grpSpPr>
            <a:xfrm>
              <a:off x="0" y="0"/>
              <a:ext cx="9144000" cy="1371600"/>
              <a:chOff x="0" y="0"/>
              <a:chExt cx="9144000" cy="1371600"/>
            </a:xfrm>
          </p:grpSpPr>
          <p:pic>
            <p:nvPicPr>
              <p:cNvPr id="44" name="Picture 2" descr="C:\Documents and Settings\itls\Local Settings\Temporary Internet Files\Content.IE5\XPQIVTFM\MPj04308400000[1].jpg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0"/>
                <a:ext cx="1600200" cy="13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4" descr="C:\Documents and Settings\itls\Local Settings\Temporary Internet Files\Content.IE5\89ATU4EX\MPj04394160000[1].jpg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0"/>
                <a:ext cx="160920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6" descr="Anderson.jpg"/>
              <p:cNvPicPr/>
              <p:nvPr/>
            </p:nvPicPr>
            <p:blipFill>
              <a:blip r:embed="rId4"/>
              <a:stretch/>
            </p:blipFill>
            <p:spPr>
              <a:xfrm>
                <a:off x="3124080" y="0"/>
                <a:ext cx="1523880" cy="136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" descr="3.jpg"/>
              <p:cNvPicPr/>
              <p:nvPr/>
            </p:nvPicPr>
            <p:blipFill>
              <a:blip r:embed="rId5"/>
              <a:stretch/>
            </p:blipFill>
            <p:spPr>
              <a:xfrm>
                <a:off x="7611120" y="0"/>
                <a:ext cx="153288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7" descr="5.jpg"/>
              <p:cNvPicPr/>
              <p:nvPr/>
            </p:nvPicPr>
            <p:blipFill>
              <a:blip r:embed="rId6"/>
              <a:stretch/>
            </p:blipFill>
            <p:spPr>
              <a:xfrm>
                <a:off x="6172200" y="0"/>
                <a:ext cx="14475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8" descr="C:\Documents and Settings\itls\Local Settings\Temporary Internet Files\Content.IE5\O7EXY5I7\MPj04308060000[1].jp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152388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" name="Picture 5" descr="C:\Documents and Settings\itls\Local Settings\Temporary Internet Files\Content.IE5\WOQ9OGOQ\MPj04276710000[1].jpg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152388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lick.png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410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10663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ow do you teach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121760" y="632520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ordle.net/. Images of Wordles are licensed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reative Commons License"/>
          <p:cNvPicPr/>
          <p:nvPr/>
        </p:nvPicPr>
        <p:blipFill>
          <a:blip r:embed="rId1"/>
          <a:stretch/>
        </p:blipFill>
        <p:spPr>
          <a:xfrm>
            <a:off x="7010280" y="6324480"/>
            <a:ext cx="1575000" cy="29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A_Day_in_the_Life_of_a_Student.png"/>
          <p:cNvPicPr/>
          <p:nvPr/>
        </p:nvPicPr>
        <p:blipFill>
          <a:blip r:embed="rId2"/>
          <a:stretch/>
        </p:blipFill>
        <p:spPr>
          <a:xfrm>
            <a:off x="485640" y="380880"/>
            <a:ext cx="82774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ital Div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Diagram 5" descr=""/>
          <p:cNvPicPr/>
          <p:nvPr/>
        </p:nvPicPr>
        <p:blipFill>
          <a:blip r:embed="rId1"/>
          <a:stretch/>
        </p:blipFill>
        <p:spPr>
          <a:xfrm>
            <a:off x="725400" y="1365120"/>
            <a:ext cx="79059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Too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C:\Documents and Settings\itls\Local Settings\Temporary Internet Files\Content.IE5\O7EXY5I7\MCj04417320000[1].png"/>
          <p:cNvPicPr/>
          <p:nvPr/>
        </p:nvPicPr>
        <p:blipFill>
          <a:blip r:embed="rId1"/>
          <a:stretch/>
        </p:blipFill>
        <p:spPr>
          <a:xfrm rot="5237400">
            <a:off x="6511680" y="1101600"/>
            <a:ext cx="1527480" cy="152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itls\Local Settings\Temporary Internet Files\Content.IE5\WOQ9OGOQ\MCj04398240000[1].png"/>
          <p:cNvPicPr/>
          <p:nvPr/>
        </p:nvPicPr>
        <p:blipFill>
          <a:blip r:embed="rId2"/>
          <a:stretch/>
        </p:blipFill>
        <p:spPr>
          <a:xfrm rot="19684200">
            <a:off x="374760" y="372708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Documents and Settings\itls\Local Settings\Temporary Internet Files\Content.IE5\WOQ9OGOQ\MCj04361510000[1].wmf"/>
          <p:cNvPicPr/>
          <p:nvPr/>
        </p:nvPicPr>
        <p:blipFill>
          <a:blip r:embed="rId3"/>
          <a:stretch/>
        </p:blipFill>
        <p:spPr>
          <a:xfrm>
            <a:off x="6553080" y="4343400"/>
            <a:ext cx="1600200" cy="14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Documents and Settings\itls\Local Settings\Temporary Internet Files\Content.IE5\89ATU4EX\MCj04395930000[1].png"/>
          <p:cNvPicPr/>
          <p:nvPr/>
        </p:nvPicPr>
        <p:blipFill>
          <a:blip r:embed="rId4"/>
          <a:stretch/>
        </p:blipFill>
        <p:spPr>
          <a:xfrm>
            <a:off x="838080" y="838080"/>
            <a:ext cx="2025720" cy="125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:\Documents and Settings\itls\Local Settings\Temporary Internet Files\Content.IE5\XPQIVTFM\MCj02511020000[1].wmf"/>
          <p:cNvPicPr/>
          <p:nvPr/>
        </p:nvPicPr>
        <p:blipFill>
          <a:blip r:embed="rId5"/>
          <a:stretch/>
        </p:blipFill>
        <p:spPr>
          <a:xfrm>
            <a:off x="3276720" y="4648320"/>
            <a:ext cx="2446200" cy="158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C:\Documents and Settings\itls\Local Settings\Temporary Internet Files\Content.IE5\89ATU4EX\MCED00009_0000[1].wmf"/>
          <p:cNvPicPr/>
          <p:nvPr/>
        </p:nvPicPr>
        <p:blipFill>
          <a:blip r:embed="rId6"/>
          <a:stretch/>
        </p:blipFill>
        <p:spPr>
          <a:xfrm>
            <a:off x="3657600" y="533520"/>
            <a:ext cx="190512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3 0.026 -0.07726 0.058 -0.07726 L 0.192 -0.07726 C 0.224 -0.07726 0.25 -0.04263 0.25 0 L 0.25 0.17584 C 0.25 0.21846 0.224 0.25443 0.192 0.25443 L 0.058 0.25443 C 0.026 0.25443 0 0.21846 0 0.17584 Z">
                                      <p:cBhvr>
                                        <p:cTn id="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ir Too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Documents and Settings\itls\Local Settings\Temporary Internet Files\Content.IE5\XPQIVTFM\MCj04397980000[1].png"/>
          <p:cNvPicPr/>
          <p:nvPr/>
        </p:nvPicPr>
        <p:blipFill>
          <a:blip r:embed="rId1"/>
          <a:stretch/>
        </p:blipFill>
        <p:spPr>
          <a:xfrm>
            <a:off x="6781680" y="1371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itls\Local Settings\Temporary Internet Files\Content.IE5\O7EXY5I7\MCj04398360000[1].png"/>
          <p:cNvPicPr/>
          <p:nvPr/>
        </p:nvPicPr>
        <p:blipFill>
          <a:blip r:embed="rId2"/>
          <a:stretch/>
        </p:blipFill>
        <p:spPr>
          <a:xfrm rot="3520200">
            <a:off x="673920" y="120816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itls\Local Settings\Temporary Internet Files\Content.IE5\O7EXY5I7\MCj04241920000[1].wmf"/>
          <p:cNvPicPr/>
          <p:nvPr/>
        </p:nvPicPr>
        <p:blipFill>
          <a:blip r:embed="rId3"/>
          <a:stretch/>
        </p:blipFill>
        <p:spPr>
          <a:xfrm>
            <a:off x="5105520" y="4267080"/>
            <a:ext cx="2565360" cy="210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itls\Local Settings\Temporary Internet Files\Content.IE5\O7EXY5I7\MCj04413300000[1].png"/>
          <p:cNvPicPr/>
          <p:nvPr/>
        </p:nvPicPr>
        <p:blipFill>
          <a:blip r:embed="rId4"/>
          <a:stretch/>
        </p:blipFill>
        <p:spPr>
          <a:xfrm>
            <a:off x="91440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C:\Documents and Settings\itls\Local Settings\Temporary Internet Files\Content.IE5\WOQ9OGOQ\MCj04338320000[1].png"/>
          <p:cNvPicPr/>
          <p:nvPr/>
        </p:nvPicPr>
        <p:blipFill>
          <a:blip r:embed="rId5"/>
          <a:stretch/>
        </p:blipFill>
        <p:spPr>
          <a:xfrm>
            <a:off x="36576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Diagram 3" descr=""/>
          <p:cNvPicPr/>
          <p:nvPr/>
        </p:nvPicPr>
        <p:blipFill>
          <a:blip r:embed="rId1"/>
          <a:stretch/>
        </p:blipFill>
        <p:spPr>
          <a:xfrm>
            <a:off x="1127160" y="1200240"/>
            <a:ext cx="71946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Diagram 2" descr=""/>
          <p:cNvPicPr/>
          <p:nvPr/>
        </p:nvPicPr>
        <p:blipFill>
          <a:blip r:embed="rId1"/>
          <a:stretch/>
        </p:blipFill>
        <p:spPr>
          <a:xfrm>
            <a:off x="1212840" y="1432080"/>
            <a:ext cx="6870600" cy="4809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Program Files\Microsoft Office\MEDIA\CAGCAT10\j0183328.wmf"/>
          <p:cNvPicPr/>
          <p:nvPr/>
        </p:nvPicPr>
        <p:blipFill>
          <a:blip r:embed="rId2"/>
          <a:stretch/>
        </p:blipFill>
        <p:spPr>
          <a:xfrm>
            <a:off x="4114800" y="4114800"/>
            <a:ext cx="12081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C:\Documents and Settings\itls\Local Settings\Temporary Internet Files\Content.IE5\O7EXY5I7\MPj04394800000[1].jpg"/>
          <p:cNvPicPr/>
          <p:nvPr/>
        </p:nvPicPr>
        <p:blipFill>
          <a:blip r:embed="rId1"/>
          <a:stretch/>
        </p:blipFill>
        <p:spPr>
          <a:xfrm>
            <a:off x="2962440" y="1974960"/>
            <a:ext cx="3152520" cy="271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00052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6324480" y="1676520"/>
            <a:ext cx="190512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3733920" y="4876920"/>
            <a:ext cx="167616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42:06Z</dcterms:created>
  <dc:creator>itls</dc:creator>
  <dc:description/>
  <dc:language>en-US</dc:language>
  <cp:lastModifiedBy>itls</cp:lastModifiedBy>
  <dcterms:modified xsi:type="dcterms:W3CDTF">2009-07-21T14:03:26Z</dcterms:modified>
  <cp:revision>4</cp:revision>
  <dc:subject/>
  <dc:title>Digital Tools for Digital Kids</dc:title>
</cp:coreProperties>
</file>